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1100"/>
        <c:axId val="69009798"/>
      </c:barChart>
      <c:catAx>
        <c:axId val="3431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9798"/>
        <c:crosses val="autoZero"/>
        <c:auto val="1"/>
        <c:lblAlgn val="ctr"/>
        <c:lblOffset val="100"/>
        <c:noMultiLvlLbl val="0"/>
      </c:catAx>
      <c:valAx>
        <c:axId val="6900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1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EE-953D-460C-849B-2E8E917C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EB2-5566-4212-9B71-AE95702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DF8-2EB7-49E4-97E5-08D36E9A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923-519E-44A7-BC8F-68F07EF6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3F3-37B3-4C2B-89AD-74394F4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5BB-6712-4C65-987F-9E0B3E21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858-CDB7-4B4C-A572-C5E3FB1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4AB-822B-440C-AC88-9B7F058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8E1-E645-4801-B303-89CBEDF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281-0FD5-4B52-904A-DBB1DA78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567-06FD-4B02-A3AE-273A90C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90B-B24A-4EBB-A01A-2DF3354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DDBD1-027E-4A73-A1FE-2978E4ED98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